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2.gif" ContentType="image/gif"/>
  <Override PartName="/ppt/media/image9.gif" ContentType="image/gif"/>
  <Override PartName="/ppt/media/image8.jpeg" ContentType="image/jpeg"/>
  <Override PartName="/ppt/media/image2.gif" ContentType="image/gif"/>
  <Override PartName="/ppt/media/image7.png" ContentType="image/png"/>
  <Override PartName="/ppt/media/image4.gif" ContentType="image/gif"/>
  <Override PartName="/ppt/media/image1.jpeg" ContentType="image/jpeg"/>
  <Override PartName="/ppt/media/image19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3.png" ContentType="image/png"/>
  <Override PartName="/ppt/media/image21.png" ContentType="image/png"/>
  <Override PartName="/ppt/media/image16.gif" ContentType="image/gif"/>
  <Override PartName="/ppt/media/image15.gif" ContentType="image/gif"/>
  <Override PartName="/ppt/media/image1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0573-9F9B-4F09-9FF5-6A7B633E0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7D3C-7A38-41A6-8D8A-298EF487C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CEDB-7D15-4B37-89A3-83D627FE2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D094-CDE6-4BAF-B59F-CE5FED7B7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1D05-10FB-4E64-A1B9-DDC530442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8AE5-09B2-4662-9306-D62DBBDFC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AB1C-7627-4B63-80AD-834F31768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99C0-05FD-458D-A176-344EC34A0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704C-E96E-4109-AC4A-61A477204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63A9-F6CE-4D79-B83E-B60FE1CB4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8DF4-9DD5-4807-8F97-21EEC74D0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EEC1-A38D-4299-B84E-F5DAF1CB3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27395-3DF5-451F-AA5C-A8279DE454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eds.lpl.arizona.edu/nineplanets/nineplanets/nineplanets.html" TargetMode="External"/><Relationship Id="rId3" Type="http://schemas.openxmlformats.org/officeDocument/2006/relationships/hyperlink" Target="http://kids.msfc.nasa.gov/SolarSystem/Planets/" TargetMode="External"/><Relationship Id="rId4" Type="http://schemas.openxmlformats.org/officeDocument/2006/relationships/hyperlink" Target="http://www.animationfactory.com/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image" Target="../media/image11.gif"/><Relationship Id="rId4" Type="http://schemas.openxmlformats.org/officeDocument/2006/relationships/image" Target="../media/image10.gif"/><Relationship Id="rId5" Type="http://schemas.openxmlformats.org/officeDocument/2006/relationships/image" Target="../media/image13.gif"/><Relationship Id="rId6" Type="http://schemas.openxmlformats.org/officeDocument/2006/relationships/image" Target="../media/image14.gif"/><Relationship Id="rId7" Type="http://schemas.openxmlformats.org/officeDocument/2006/relationships/image" Target="../media/image15.gif"/><Relationship Id="rId8" Type="http://schemas.openxmlformats.org/officeDocument/2006/relationships/image" Target="../media/image16.gif"/><Relationship Id="rId9" Type="http://schemas.openxmlformats.org/officeDocument/2006/relationships/image" Target="../media/image6.gif"/><Relationship Id="rId10" Type="http://schemas.openxmlformats.org/officeDocument/2006/relationships/image" Target="../media/image17.gif"/><Relationship Id="rId11" Type="http://schemas.openxmlformats.org/officeDocument/2006/relationships/image" Target="../media/image18.gif"/><Relationship Id="rId1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hyperlink" Target="http://seds.lpl.arizona.edu/nineplanets/nineplanets/nineplanets.html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04560" y="3886200"/>
            <a:ext cx="8839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esentation by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 Cr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 , _______, _______, 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666880" y="1905120"/>
            <a:ext cx="42674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Explor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2057400" y="342900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Insert the name of your plane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41148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590920" y="32004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143000" y="1752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1447920" y="0"/>
            <a:ext cx="685800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9754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87 E">
                                      <p:cBhvr>
                                        <p:cTn id="10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have therefore conclu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Samples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ne Plan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seds.lpl.arizona.edu/nineplanets/nineplanets/nineplanet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SA K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kids.msfc.nasa.gov/SolarSystem/Planets/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imation Fac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animationfactory.com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lanet we are studying is ______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0102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learned that the planet _________ is 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438280" y="4952880"/>
            <a:ext cx="5715000" cy="6426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images on the slide and fill in the text box with information about your pla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tance from the Sun and from Ear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 is the __th planet from the Sun.  It is ___________ miles from the Su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istance of _______ from the earth is _____________ mi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334120" y="2438280"/>
            <a:ext cx="2886120" cy="18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ze of the pla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 is the __ largest planet in our solar system.  It’s diameter is _______ and it’s density is _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_____ the size of the ear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048360" y="2673360"/>
            <a:ext cx="2104920" cy="16844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495680" y="5257800"/>
            <a:ext cx="4191120" cy="6426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l in the details and change the planet to a picture of your pla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80880" y="3657600"/>
            <a:ext cx="530568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urface Temperature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6145200" y="304920"/>
            <a:ext cx="2435400" cy="6248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09480" y="4800600"/>
            <a:ext cx="5181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urface temperature o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_____________________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609480"/>
            <a:ext cx="5105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Appear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what we know, the planet 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described as being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1485720" cy="14857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6095880" y="1143000"/>
            <a:ext cx="714600" cy="7142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5943600" y="2362320"/>
            <a:ext cx="1143000" cy="10857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04920" y="2057400"/>
            <a:ext cx="586728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otational Period (length of one da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 takes _____ for the planet to rotate one entire turn on its axis.  It takes 23.94 hours which we round off to 24 hours on ear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67 0.125 0.16667 C 0.125 0.25867 0.069 0.33333 0 0.33333 C -0.069 0.33333 -0.125 0.25867 -0.125 0.16667 C -0.125 0.07467 -0.069 0 0 0 Z">
                                      <p:cBhvr>
                                        <p:cTn id="18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ngth of 1 Y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bital Period (length of one ye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 takes ________         for the planet to make one revolution around the sun. (It is 365.25 days on eart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105520" y="1600200"/>
            <a:ext cx="904680" cy="809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5715000" y="2514600"/>
            <a:ext cx="1314360" cy="12492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6248520" y="182880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4495680" y="2590920"/>
            <a:ext cx="714600" cy="7142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6"/>
          <a:stretch/>
        </p:blipFill>
        <p:spPr>
          <a:xfrm>
            <a:off x="4343400" y="358128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7"/>
          <a:stretch/>
        </p:blipFill>
        <p:spPr>
          <a:xfrm>
            <a:off x="7010280" y="2438280"/>
            <a:ext cx="486000" cy="486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8"/>
          <a:stretch/>
        </p:blipFill>
        <p:spPr>
          <a:xfrm>
            <a:off x="6477120" y="480060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9"/>
          <a:stretch/>
        </p:blipFill>
        <p:spPr>
          <a:xfrm>
            <a:off x="6934320" y="3581280"/>
            <a:ext cx="1828800" cy="14637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0"/>
          <a:stretch/>
        </p:blipFill>
        <p:spPr>
          <a:xfrm>
            <a:off x="5334120" y="5638680"/>
            <a:ext cx="714240" cy="7146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1"/>
          <a:stretch/>
        </p:blipFill>
        <p:spPr>
          <a:xfrm>
            <a:off x="8458200" y="1066680"/>
            <a:ext cx="42876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lcanic A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384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s plane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made mainl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 does/does not have volcanic activity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248520" y="4114800"/>
            <a:ext cx="1104840" cy="22096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57200" y="304920"/>
            <a:ext cx="148608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tellites (Moons) and R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 has ___ mo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828800" y="2666880"/>
            <a:ext cx="4038480" cy="22910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09480" y="5334120"/>
            <a:ext cx="7772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 for photos of the moons of planets a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seds.lpl.arizona.edu/nineplanets/nineplanets/nineplanet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867280" y="1676520"/>
            <a:ext cx="28195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 has ___ mo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3T23:47:04Z</dcterms:created>
  <dc:creator>ROBERT D. CURRY</dc:creator>
  <dc:description/>
  <dc:language>en-US</dc:language>
  <cp:lastModifiedBy>Teacher</cp:lastModifiedBy>
  <dcterms:modified xsi:type="dcterms:W3CDTF">2007-03-07T16:11:47Z</dcterms:modified>
  <cp:revision>3</cp:revision>
  <dc:subject/>
  <dc:title>Solar System WebQuest  </dc:title>
</cp:coreProperties>
</file>